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DF86-F537-4BDF-A73A-263E0D44C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A7B-683A-4F5B-ABC9-3B4EF1C63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20F-15BF-4F41-AFEC-B4C93D11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6CE-F8EC-4117-9565-1489719F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3D2-6061-4C41-9A03-67D0404D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3B6-83E5-4A5F-81E2-968F98E4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DAC-0321-44DB-BE04-3429D20F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9C1-3A6E-4EF0-8DCD-AF3C27B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BF95-FFE3-47F3-AFB2-810887D2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2F7-F645-4EA2-913C-1E82FB84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DFAF-6D9F-4252-8149-C00E5318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CA09-3061-4C83-B8DD-22C3721F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99F-63C5-49E2-9BDD-08CBD54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72C-3116-4E74-B3F5-4E7AFFAF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97C-6440-49A0-950F-1019DDBA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C83A-A1F7-4572-8ED9-43FE32C5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0044-6457-420F-B147-A663E508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3D04-A13F-4EAB-97E5-4089602E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1E94-CD0B-4A09-ACE7-6CE7834A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8459-8000-4A6C-943F-37DEA732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54E6-A447-492B-A895-F1C289AB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AAD6-E18A-4B77-8863-4D521B7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1561-0658-4C9E-AAEC-FF1F9701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224B-CF05-4A81-9487-F458310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ED0-AE0B-478D-A60E-C5A12A9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6367-47A3-4D0C-A335-37901A07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452B-A74F-4BC8-B801-DA0542A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A915-BF54-4E6A-B45F-BBE88D9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CA6E-DC20-4BBB-8B52-08597B2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E40A-0AD4-4077-A1BA-63093F2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211A-F0E5-45D7-AAD3-BB821F00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8CDF-3EC5-4142-83FD-D691FE68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8EF3-7580-4F29-967B-800C1B82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85BA-7706-4981-B430-9678821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5436-0D16-4147-A049-5F8DD57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531-34CF-495A-88C6-27D012ED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824E-80C6-4125-B88E-E62AC848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460B-0856-4913-A608-10BA8B7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C9B18-B174-40BC-8DB3-6C227911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B120-CC6B-4849-AE9A-28E30ABD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EC13-A1B4-4F21-A2AD-D6F6C73B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DBFF6-E155-42DE-BA9F-35C8D141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E53D-13E4-4722-AFC1-0CA5406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0813-42EA-44A1-976D-F8B68A58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EA0E-7820-4086-A70F-7EDE7334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C13-3684-4581-B1A5-A5D079DB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C68-FF47-446A-B362-1D7AF1E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E4A-B77E-492C-84AD-6C3276B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406-0335-45DA-86B7-87180D9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B2F-3BB0-4595-9748-BC1CD06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9C4-02F4-40B0-BDA8-9615ACD2FD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5E5C-F3AE-4C9B-A8A5-92AA9F9C2F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692-4F30-4582-A404-DC0B0115290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0A2E-0556-41DD-8F34-C6784B0627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C:\Users\Ксюша\Desktop\obschaya.gif"/>
          <p:cNvPicPr/>
          <p:nvPr/>
        </p:nvPicPr>
        <p:blipFill>
          <a:blip r:embed="rId1"/>
          <a:stretch/>
        </p:blipFill>
        <p:spPr>
          <a:xfrm>
            <a:off x="0" y="3360600"/>
            <a:ext cx="4991040" cy="34974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"/>
          <p:cNvSpPr/>
          <p:nvPr/>
        </p:nvSpPr>
        <p:spPr>
          <a:xfrm>
            <a:off x="428760" y="1357200"/>
            <a:ext cx="82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«Нам вместе весело</a:t>
            </a:r>
            <a:r>
              <a:rPr b="1" lang="en-US" sz="8000" spc="-1" strike="noStrike">
                <a:solidFill>
                  <a:srgbClr val="ff0000"/>
                </a:solidFill>
                <a:latin typeface="Constantia"/>
              </a:rPr>
              <a:t>!</a:t>
            </a: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Заголовок 3" descr=""/>
          <p:cNvPicPr/>
          <p:nvPr/>
        </p:nvPicPr>
        <p:blipFill>
          <a:blip r:embed="rId2"/>
          <a:stretch/>
        </p:blipFill>
        <p:spPr>
          <a:xfrm>
            <a:off x="5072040" y="4906800"/>
            <a:ext cx="374796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I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конкурс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Математическая кухня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(домашнее задание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готовить блюдо и обосновать его с математической точки зр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Ксюша\Desktop\t______-____________865.jpg"/>
          <p:cNvPicPr/>
          <p:nvPr/>
        </p:nvPicPr>
        <p:blipFill>
          <a:blip r:embed="rId1"/>
          <a:stretch/>
        </p:blipFill>
        <p:spPr>
          <a:xfrm>
            <a:off x="2643120" y="3643200"/>
            <a:ext cx="30765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X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конкурс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Конкурс частушек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(домашнее задание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Users\Ксюша\Desktop\art_3_5_clip_image034.jpg"/>
          <p:cNvPicPr/>
          <p:nvPr/>
        </p:nvPicPr>
        <p:blipFill>
          <a:blip r:embed="rId1"/>
          <a:stretch/>
        </p:blipFill>
        <p:spPr>
          <a:xfrm>
            <a:off x="2071800" y="2500200"/>
            <a:ext cx="43956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Х конкурс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Театральная студи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нсценировать сказку, а соперникам определить, о каком физическом явлении в ней идет реч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Ксюша\Desktop\maski1.jpg"/>
          <p:cNvPicPr/>
          <p:nvPr/>
        </p:nvPicPr>
        <p:blipFill>
          <a:blip r:embed="rId2"/>
          <a:stretch/>
        </p:blipFill>
        <p:spPr>
          <a:xfrm>
            <a:off x="5857920" y="4286160"/>
            <a:ext cx="23241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XI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Конкурс пантомим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зобразить указанное в карточке физическое явления, а соперники должны определить, что им было показано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Users\Ксюша\Desktop\masha5.jpg"/>
          <p:cNvPicPr/>
          <p:nvPr/>
        </p:nvPicPr>
        <p:blipFill>
          <a:blip r:embed="rId2"/>
          <a:stretch/>
        </p:blipFill>
        <p:spPr>
          <a:xfrm>
            <a:off x="4071960" y="4143240"/>
            <a:ext cx="3236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14200" y="1642680"/>
            <a:ext cx="871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«Представление команд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(название, девиз, эмблем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7120" y="857160"/>
            <a:ext cx="8501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конкурс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Разминка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андам по очереди задаются вопросы; если команда не отвечает, то может ответить команда соперника. (Каждый вопрос = 1 балл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Ксюша\Desktop\0329b_vopros.jpg.jpg"/>
          <p:cNvPicPr/>
          <p:nvPr/>
        </p:nvPicPr>
        <p:blipFill>
          <a:blip r:embed="rId1"/>
          <a:stretch/>
        </p:blipFill>
        <p:spPr>
          <a:xfrm>
            <a:off x="6429240" y="4643280"/>
            <a:ext cx="2163960" cy="1562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Ксюша\Desktop\0329b_vopros.jpg.jpg"/>
          <p:cNvPicPr/>
          <p:nvPr/>
        </p:nvPicPr>
        <p:blipFill>
          <a:blip r:embed="rId2"/>
          <a:stretch/>
        </p:blipFill>
        <p:spPr>
          <a:xfrm>
            <a:off x="2857680" y="1428840"/>
            <a:ext cx="1976400" cy="1427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Ксюша\Desktop\0329b_vopros.jpg.jpg"/>
          <p:cNvPicPr/>
          <p:nvPr/>
        </p:nvPicPr>
        <p:blipFill>
          <a:blip r:embed="rId3"/>
          <a:stretch/>
        </p:blipFill>
        <p:spPr>
          <a:xfrm>
            <a:off x="4786200" y="1428840"/>
            <a:ext cx="1976400" cy="1427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Ксюша\Desktop\0329b_vopros.jpg.jpg"/>
          <p:cNvPicPr/>
          <p:nvPr/>
        </p:nvPicPr>
        <p:blipFill>
          <a:blip r:embed="rId4"/>
          <a:stretch/>
        </p:blipFill>
        <p:spPr>
          <a:xfrm>
            <a:off x="1643040" y="1428840"/>
            <a:ext cx="1976400" cy="142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Ксюша\Desktop\0329b_vopros.jpg.jpg"/>
          <p:cNvPicPr/>
          <p:nvPr/>
        </p:nvPicPr>
        <p:blipFill>
          <a:blip r:embed="rId5"/>
          <a:stretch/>
        </p:blipFill>
        <p:spPr>
          <a:xfrm>
            <a:off x="3571920" y="1428840"/>
            <a:ext cx="1976400" cy="1427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Ксюша\Desktop\0329b_vopros.jpg.jpg"/>
          <p:cNvPicPr/>
          <p:nvPr/>
        </p:nvPicPr>
        <p:blipFill>
          <a:blip r:embed="rId6"/>
          <a:stretch/>
        </p:blipFill>
        <p:spPr>
          <a:xfrm>
            <a:off x="5500800" y="1428840"/>
            <a:ext cx="1976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7168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III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конкурс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«Конкурс капитанов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питаны-капитаны, постарайтес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форме быть от зари и до за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питаны-капитаны, улыбайтес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шь веселым покоряются жюр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Ксюша\Desktop\6330118.jpg"/>
          <p:cNvPicPr/>
          <p:nvPr/>
        </p:nvPicPr>
        <p:blipFill>
          <a:blip r:embed="rId1"/>
          <a:stretch/>
        </p:blipFill>
        <p:spPr>
          <a:xfrm>
            <a:off x="5857920" y="3071880"/>
            <a:ext cx="31906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00040" y="999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-6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питану каждой команды нужно написать четыре слова, с которыми у него ассоциируется «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контрольная по математик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-6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-6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е чего в течение одной минуты команде необходимо назвать свои ассоци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-6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-6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юри учитывает количество совпад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-6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Каждое совпадение = 1 бал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00080"/>
            <a:ext cx="840096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V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конкурс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Конкурс художников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Рисуем фигуру челове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еник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спользуют только              Использую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уокружности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только окруж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ямоугольники                  и треугольн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Users\Ксюша\Desktop\vimage1.php.gif"/>
          <p:cNvPicPr/>
          <p:nvPr/>
        </p:nvPicPr>
        <p:blipFill>
          <a:blip r:embed="rId1"/>
          <a:stretch/>
        </p:blipFill>
        <p:spPr>
          <a:xfrm>
            <a:off x="3357720" y="2786040"/>
            <a:ext cx="2014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онкурс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Каждому дело по душ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«построить дом» (посмотреть на рисунок 15 секунд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тем собрать «дом» из вырезанных частей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На глаз определить сколько граммов сахар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ходится в стакане. (записка с правильным ответим находится в стакан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 балла, если точ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 балл, если близко к точн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Users\Ксюша\Desktop\house.jpg"/>
          <p:cNvPicPr/>
          <p:nvPr/>
        </p:nvPicPr>
        <p:blipFill>
          <a:blip r:embed="rId1"/>
          <a:stretch/>
        </p:blipFill>
        <p:spPr>
          <a:xfrm>
            <a:off x="5000760" y="3714840"/>
            <a:ext cx="39621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3840" y="714240"/>
            <a:ext cx="8472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I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конкурс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Конкурс поэтов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чинить стихотворения на заданные рифм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Квадрат – бра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Вектор – директор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Плюс – флюс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David"/>
              </a:rPr>
              <a:t>Диана - медиа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Users\Ксюша\Desktop\3.1188076439.gif"/>
          <p:cNvPicPr/>
          <p:nvPr/>
        </p:nvPicPr>
        <p:blipFill>
          <a:blip r:embed="rId1"/>
          <a:stretch/>
        </p:blipFill>
        <p:spPr>
          <a:xfrm>
            <a:off x="928800" y="3000240"/>
            <a:ext cx="2670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5840" y="928800"/>
            <a:ext cx="840096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VII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 конкурс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«Изобразить графически поговорк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ем дальше в лес, тем больше др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то с возу упало, то пропал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8:13:30Z</dcterms:created>
  <dc:creator>Ксюша</dc:creator>
  <dc:description/>
  <dc:language>en-US</dc:language>
  <cp:lastModifiedBy>Nachalovo</cp:lastModifiedBy>
  <dcterms:modified xsi:type="dcterms:W3CDTF">2021-12-08T16:16:18Z</dcterms:modified>
  <cp:revision>11</cp:revision>
  <dc:subject/>
  <dc:title>Слайд 1</dc:title>
</cp:coreProperties>
</file>